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8F0-402C-4F51-8842-6D15A383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292-27DD-43FD-9C65-723205FE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272-3B79-4025-8651-DC2628F1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FFE9-9A9F-4350-9FC9-61B76152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78E8-0953-43F3-827F-740688C4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9068-D155-4183-9327-F10E714B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D962-324C-41FE-8EA1-FD3F34DF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156B-7C6A-4859-B18E-3034B7A3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A4BF-89DD-40DA-BEB6-84997F4B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177D-D88B-4593-9C10-A7E21C9A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E3E8-9EF8-4348-8FAD-C8D24803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FE3-44AF-4036-B041-5FB2983D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2AC4-1EBA-4C76-B231-D7DB2695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0220-B881-4DF2-B394-DA3F5DD3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8C74-804E-4E12-97E9-88EDAC89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6A0B-9C28-40BA-BD09-6E763B13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F350-0C8D-4601-A55F-36453D8F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AFF-EC37-4E12-B1C0-1479DF9F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5EF-3AA4-495B-B5FC-D01850C3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384-3357-4E68-BFA3-0EE8A82E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F0B-7D65-4111-8F68-B1C53261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35C-F14D-4E17-B9D1-9429CFDE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27C-01A3-45A5-9F92-649B5B82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80C-C62D-4CD9-B595-B8FC2043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E6B2-E842-4D90-8143-80A6875C52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D81D-A494-42BB-A893-9A4A68D55C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3—Chemical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2760" y="5524560"/>
            <a:ext cx="82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be able to read the formulas for chemicals in the antaci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1320" y="3086280"/>
            <a:ext cx="3481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1320" y="3086280"/>
            <a:ext cx="3481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416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75120" y="441792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Br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1320" y="3086280"/>
            <a:ext cx="3481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ium bro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416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75120" y="441792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Br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45000" y="5386320"/>
            <a:ext cx="176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4640" y="26668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81800" y="32148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=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45600" y="405288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3595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63868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cript “2” is used to show that 2 anions are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38320" y="45864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12000" y="1996920"/>
            <a:ext cx="27928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es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Lithium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2760" y="1996920"/>
            <a:ext cx="191124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s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Li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12000" y="1996920"/>
            <a:ext cx="27928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es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Lithium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atomic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539000"/>
            <a:ext cx="741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Polyatomic Ion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than one atom that together have a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5119560"/>
            <a:ext cx="966600" cy="90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8e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34816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5424480"/>
            <a:ext cx="457200" cy="4572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89440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Polyatomic Ionic Compound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und containing at least one polyatomic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560" y="5105520"/>
            <a:ext cx="1400040" cy="991440"/>
            <a:chOff x="3049560" y="5105520"/>
            <a:chExt cx="1400040" cy="991440"/>
          </a:xfrm>
        </p:grpSpPr>
        <p:grpSp>
          <p:nvGrpSpPr>
            <p:cNvPr id="188" name=""/>
            <p:cNvGrpSpPr/>
            <p:nvPr/>
          </p:nvGrpSpPr>
          <p:grpSpPr>
            <a:xfrm>
              <a:off x="3200400" y="5105520"/>
              <a:ext cx="1067040" cy="899640"/>
              <a:chOff x="3200400" y="5105520"/>
              <a:chExt cx="1067040" cy="899640"/>
            </a:xfrm>
          </p:grpSpPr>
          <p:sp>
            <p:nvSpPr>
              <p:cNvPr id="189" name=""/>
              <p:cNvSpPr/>
              <p:nvPr/>
            </p:nvSpPr>
            <p:spPr>
              <a:xfrm>
                <a:off x="3810240" y="5410080"/>
                <a:ext cx="457200" cy="442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8ec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00400" y="5410080"/>
                <a:ext cx="457200" cy="442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8ec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05320" y="5105520"/>
                <a:ext cx="457200" cy="442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8ec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05320" y="5562360"/>
                <a:ext cx="457200" cy="442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8ec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049560" y="518004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yat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72200" y="5181480"/>
            <a:ext cx="2603880" cy="917640"/>
            <a:chOff x="6172200" y="5181480"/>
            <a:chExt cx="2603880" cy="917640"/>
          </a:xfrm>
        </p:grpSpPr>
        <p:grpSp>
          <p:nvGrpSpPr>
            <p:cNvPr id="195" name=""/>
            <p:cNvGrpSpPr/>
            <p:nvPr/>
          </p:nvGrpSpPr>
          <p:grpSpPr>
            <a:xfrm>
              <a:off x="6400800" y="5181480"/>
              <a:ext cx="1980720" cy="900360"/>
              <a:chOff x="6400800" y="5181480"/>
              <a:chExt cx="1980720" cy="90036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315200" y="5181480"/>
                <a:ext cx="1066320" cy="900360"/>
                <a:chOff x="7315200" y="5181480"/>
                <a:chExt cx="1066320" cy="9003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924680" y="5486400"/>
                  <a:ext cx="456840" cy="44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2aeba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315200" y="5486400"/>
                  <a:ext cx="456840" cy="44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2aeba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619760" y="5181480"/>
                  <a:ext cx="456840" cy="44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2aeba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619760" y="5638680"/>
                  <a:ext cx="456840" cy="44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a2aeba"/>
                    </a:gs>
                  </a:gsLst>
                  <a:path path="rect">
                    <a:fillToRect l="50000" t="50000" r="50000" b="50000"/>
                  </a:path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6400800" y="5181480"/>
                <a:ext cx="966600" cy="90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2aeba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172200" y="5273640"/>
              <a:ext cx="260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lyatomic 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151452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Do not end with “-ide” (except hydroxide &amp; cyanid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Do not use covalent prefi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Write the symbol &amp; charge of the cation &amp; an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Add additional cations or anions to have a neutral comp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Use subscripts to show the number of 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33ff"/>
                </a:solidFill>
                <a:latin typeface="Arial"/>
              </a:rPr>
              <a:t>When using subscripts with a polyatomic ion, you must put the polyatomic ion in parenthes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ing &amp; Naming Polyatomic Io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09880" y="3086280"/>
            <a:ext cx="3729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09880" y="3086280"/>
            <a:ext cx="3729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6616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7512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ppendix (Page A-2) has l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Common polyatomic 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Multivalent met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Covalent prefix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periodic table to determine the charges of common elements when they form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nders from Section 2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09880" y="3086280"/>
            <a:ext cx="3729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16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7512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59760" y="5386320"/>
            <a:ext cx="2266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92680" y="2666880"/>
            <a:ext cx="112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2160" y="32148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-2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42720" y="4052880"/>
            <a:ext cx="14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3595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563868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cript “2” is used to show that 2 cations are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45864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1 + -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0240" y="3086280"/>
            <a:ext cx="377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esium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0240" y="3086280"/>
            <a:ext cx="377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esium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4280" y="3049560"/>
            <a:ext cx="2194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2352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4268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57520" y="3697200"/>
            <a:ext cx="12794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2800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196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03520" y="182880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g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6092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10240" y="3086280"/>
            <a:ext cx="377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esium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4280" y="3049560"/>
            <a:ext cx="2194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352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4268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57520" y="3697200"/>
            <a:ext cx="12794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2800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5196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03520" y="182880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g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6092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60840" y="5386320"/>
            <a:ext cx="2739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g(N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601992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arenthesis when adding subscripts to polyatomic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92680" y="2209680"/>
            <a:ext cx="154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1800" y="27576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48480" y="3595680"/>
            <a:ext cx="160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3138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18148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cript “2” is used to show that 2 anions are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38320" y="41292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13080" y="1996920"/>
            <a:ext cx="31096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od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tassium sulf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37360" y="1996920"/>
            <a:ext cx="191124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aN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a(Cl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13080" y="1996920"/>
            <a:ext cx="31096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od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tassium sulf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valent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1851480"/>
            <a:ext cx="741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Multivalent Metal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al that has more than one possibility for cationic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1514520"/>
            <a:ext cx="833292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Will have roman num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ame as binary ionic or polyatomic io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The roman numerals tell the charge of the metal (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ing &amp; Naming Multivalent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09880" y="3086280"/>
            <a:ext cx="284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on (III)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Io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09880" y="3086280"/>
            <a:ext cx="284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on (III)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14280" y="3049560"/>
            <a:ext cx="13716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3697200"/>
            <a:ext cx="109692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36852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1880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49400" y="44179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09880" y="3086280"/>
            <a:ext cx="2849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on (III) 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4280" y="3049560"/>
            <a:ext cx="13716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697200"/>
            <a:ext cx="109692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36852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880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Fe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49400" y="44179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0840" y="5386320"/>
            <a:ext cx="1758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92680" y="2209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82160" y="2757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 + -2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56040" y="359568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24480" y="3138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29200" y="5181480"/>
            <a:ext cx="37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cript “2” and “3” are used to show the numbers of atom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37240" y="41292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 + 3 + -2 + -2 + -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09160" y="3086280"/>
            <a:ext cx="357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09160" y="3086280"/>
            <a:ext cx="357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14280" y="3049560"/>
            <a:ext cx="201168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2352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4268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3697200"/>
            <a:ext cx="1279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07520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4748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3520" y="182880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u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5608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09160" y="3086280"/>
            <a:ext cx="357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14280" y="3049560"/>
            <a:ext cx="201168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2352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4268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52680" y="3697200"/>
            <a:ext cx="1279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07520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47480" y="4019400"/>
            <a:ext cx="181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Polyat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03520" y="182880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u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56080" y="4738680"/>
            <a:ext cx="187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60120" y="5386320"/>
            <a:ext cx="2672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(N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92680" y="2209680"/>
            <a:ext cx="154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81800" y="27576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5000" y="3595680"/>
            <a:ext cx="160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4480" y="3138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518148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arenthesis when adding subscripts to a polyatomic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8320" y="41292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+ -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12000" y="1996920"/>
            <a:ext cx="32896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Iron 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Lead (IV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Ti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37360" y="1996920"/>
            <a:ext cx="191124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e(N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u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b(OH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12000" y="1996920"/>
            <a:ext cx="328968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Iron 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Lead (IV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Ti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Covalent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263592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Binary Covalent Compound</a:t>
            </a:r>
            <a:r>
              <a:rPr b="1" lang="en-US" sz="3200" spc="-1" strike="noStrike">
                <a:solidFill>
                  <a:srgbClr val="d9d8e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und made from two non-metals that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19320" y="4572000"/>
            <a:ext cx="96660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8e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4572000"/>
            <a:ext cx="96696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8e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486400" y="4572000"/>
            <a:ext cx="3124080" cy="900000"/>
            <a:chOff x="5486400" y="4572000"/>
            <a:chExt cx="3124080" cy="900000"/>
          </a:xfrm>
        </p:grpSpPr>
        <p:grpSp>
          <p:nvGrpSpPr>
            <p:cNvPr id="347" name=""/>
            <p:cNvGrpSpPr/>
            <p:nvPr/>
          </p:nvGrpSpPr>
          <p:grpSpPr>
            <a:xfrm>
              <a:off x="5867280" y="4572000"/>
              <a:ext cx="1957320" cy="900000"/>
              <a:chOff x="5867280" y="4572000"/>
              <a:chExt cx="1957320" cy="900000"/>
            </a:xfrm>
          </p:grpSpPr>
          <p:sp>
            <p:nvSpPr>
              <p:cNvPr id="348" name=""/>
              <p:cNvSpPr/>
              <p:nvPr/>
            </p:nvSpPr>
            <p:spPr>
              <a:xfrm>
                <a:off x="5867280" y="4572000"/>
                <a:ext cx="966960" cy="90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858000" y="4572000"/>
                <a:ext cx="966600" cy="90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5486400" y="48006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valent comp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114800" y="480060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62320" y="4876920"/>
            <a:ext cx="457200" cy="4572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162792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Covalent bond</a:t>
            </a:r>
            <a:r>
              <a:rPr b="1" lang="en-US" sz="3200" spc="-1" strike="noStrike">
                <a:solidFill>
                  <a:srgbClr val="d9d8e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oms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57200" y="151452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Use covalent prefix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Write the symbols of the first and second el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Use the covalent prefixes (assume the first element is “1” if there’s no prefix) as the subscripts to show number of atom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ing &amp; Naming Binary Cova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6160" y="5691240"/>
            <a:ext cx="791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 do not form charges when bonding covalently…you DO NOT need to worry about charges with this typ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842200"/>
            <a:ext cx="741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Binary Ionic Compound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und containing two elements—one metal and one non-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4943520"/>
            <a:ext cx="96660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8e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4943520"/>
            <a:ext cx="966960" cy="9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8e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638680" y="4943520"/>
            <a:ext cx="3124440" cy="900000"/>
            <a:chOff x="5638680" y="4943520"/>
            <a:chExt cx="3124440" cy="900000"/>
          </a:xfrm>
        </p:grpSpPr>
        <p:grpSp>
          <p:nvGrpSpPr>
            <p:cNvPr id="105" name=""/>
            <p:cNvGrpSpPr/>
            <p:nvPr/>
          </p:nvGrpSpPr>
          <p:grpSpPr>
            <a:xfrm>
              <a:off x="5867280" y="4943520"/>
              <a:ext cx="1957320" cy="900000"/>
              <a:chOff x="5867280" y="4943520"/>
              <a:chExt cx="1957320" cy="900000"/>
            </a:xfrm>
          </p:grpSpPr>
          <p:sp>
            <p:nvSpPr>
              <p:cNvPr id="106" name=""/>
              <p:cNvSpPr/>
              <p:nvPr/>
            </p:nvSpPr>
            <p:spPr>
              <a:xfrm>
                <a:off x="5867280" y="4943520"/>
                <a:ext cx="966960" cy="90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58000" y="4943520"/>
                <a:ext cx="966600" cy="90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638680" y="51721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onic Compou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114800" y="517212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5248440"/>
            <a:ext cx="457200" cy="4572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479b8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589760"/>
            <a:ext cx="74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Ionic bond</a:t>
            </a: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nd formed by attraction between + and -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2400" y="3086280"/>
            <a:ext cx="7271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nitrogen Tetraox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2400" y="3086280"/>
            <a:ext cx="7271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nitrogen Tetraox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14280" y="3049560"/>
            <a:ext cx="338328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76876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6280" y="22320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79880" y="4038480"/>
            <a:ext cx="319896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656400" y="40258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485760" y="42958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3668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Di-”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46920" y="466236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Tetra-”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20760" y="5315040"/>
            <a:ext cx="16516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12400" y="3086280"/>
            <a:ext cx="5023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ilicon diox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2400" y="3086280"/>
            <a:ext cx="5023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ilicon diox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14280" y="3049560"/>
            <a:ext cx="2286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31156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5240" y="22320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4038480"/>
            <a:ext cx="2286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800600" y="40258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29960" y="42958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79480" y="160020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Mono-” is not written for the firs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91120" y="466236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Di-”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86200" y="5315040"/>
            <a:ext cx="15811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UTION!!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72160" y="2216160"/>
            <a:ext cx="359244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61920" y="2216160"/>
            <a:ext cx="359244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61920" y="2873520"/>
            <a:ext cx="3592440" cy="7887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s for “2” in covalent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72160" y="2873520"/>
            <a:ext cx="3592440" cy="7887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there’s a hydrogen in the polyatomic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3840" y="1587600"/>
            <a:ext cx="56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” and “bi” do not mean the same t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66960" y="3782880"/>
            <a:ext cx="359244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 dioxide = CO</a:t>
            </a:r>
            <a:r>
              <a:rPr b="1" lang="en-US" sz="20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776840" y="3782880"/>
            <a:ext cx="359244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dium biphosphate =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767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13080" y="1996920"/>
            <a:ext cx="4221000" cy="22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rbo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Nitroge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Diphosphorus penta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37360" y="1996920"/>
            <a:ext cx="19112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13080" y="1996920"/>
            <a:ext cx="4221000" cy="22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rbo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Nitroge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Diphosphorus penta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menclature Summ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15880" y="1889280"/>
            <a:ext cx="8289000" cy="4143600"/>
            <a:chOff x="515880" y="1889280"/>
            <a:chExt cx="8289000" cy="4143600"/>
          </a:xfrm>
        </p:grpSpPr>
        <p:cxnSp>
          <p:nvCxnSpPr>
            <p:cNvPr id="400" name="_s175147"/>
            <p:cNvCxnSpPr>
              <a:stCxn id="401" idx="0"/>
              <a:endCxn id="402" idx="2"/>
            </p:cNvCxnSpPr>
            <p:nvPr/>
          </p:nvCxnSpPr>
          <p:spPr>
            <a:xfrm flipV="1" rot="16200000">
              <a:off x="4401000" y="3858480"/>
              <a:ext cx="518400" cy="1758600"/>
            </a:xfrm>
            <a:prstGeom prst="bentConnector3">
              <a:avLst>
                <a:gd name="adj1" fmla="val 332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3" name="_s175145"/>
            <p:cNvCxnSpPr>
              <a:stCxn id="404" idx="0"/>
              <a:endCxn id="402" idx="2"/>
            </p:cNvCxnSpPr>
            <p:nvPr/>
          </p:nvCxnSpPr>
          <p:spPr>
            <a:xfrm flipH="1" flipV="1" rot="5400000">
              <a:off x="2642760" y="3858120"/>
              <a:ext cx="518400" cy="1759320"/>
            </a:xfrm>
            <a:prstGeom prst="bentConnector3">
              <a:avLst>
                <a:gd name="adj1" fmla="val 332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5" name="_s175142"/>
            <p:cNvCxnSpPr>
              <a:stCxn id="406" idx="0"/>
              <a:endCxn id="407" idx="2"/>
            </p:cNvCxnSpPr>
            <p:nvPr/>
          </p:nvCxnSpPr>
          <p:spPr>
            <a:xfrm flipV="1" rot="16200000">
              <a:off x="6159240" y="2304000"/>
              <a:ext cx="518400" cy="1759320"/>
            </a:xfrm>
            <a:prstGeom prst="bentConnector3">
              <a:avLst>
                <a:gd name="adj1" fmla="val 332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08" name="_s175141"/>
            <p:cNvCxnSpPr>
              <a:stCxn id="402" idx="0"/>
              <a:endCxn id="407" idx="2"/>
            </p:cNvCxnSpPr>
            <p:nvPr/>
          </p:nvCxnSpPr>
          <p:spPr>
            <a:xfrm flipH="1" flipV="1" rot="5400000">
              <a:off x="4401000" y="2304360"/>
              <a:ext cx="518400" cy="1758600"/>
            </a:xfrm>
            <a:prstGeom prst="bentConnector3">
              <a:avLst>
                <a:gd name="adj1" fmla="val 332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07" name="_s175137"/>
            <p:cNvSpPr/>
            <p:nvPr/>
          </p:nvSpPr>
          <p:spPr>
            <a:xfrm>
              <a:off x="4032360" y="1889280"/>
              <a:ext cx="3013920" cy="1035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Writing Chemical Formul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5138"/>
            <p:cNvSpPr/>
            <p:nvPr/>
          </p:nvSpPr>
          <p:spPr>
            <a:xfrm>
              <a:off x="2274480" y="3443040"/>
              <a:ext cx="3013920" cy="1035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oes not contain covalent prefix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175139"/>
            <p:cNvSpPr/>
            <p:nvPr/>
          </p:nvSpPr>
          <p:spPr>
            <a:xfrm>
              <a:off x="5790960" y="3443040"/>
              <a:ext cx="3013920" cy="1035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oes contain covalent prefixes = </a:t>
              </a:r>
              <a:r>
                <a:rPr b="0" lang="en-US" sz="2200" spc="-1" strike="noStrike">
                  <a:solidFill>
                    <a:srgbClr val="9933ff"/>
                  </a:solidFill>
                  <a:latin typeface="Arial"/>
                </a:rPr>
                <a:t>Binary Covalent compou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175144"/>
            <p:cNvSpPr/>
            <p:nvPr/>
          </p:nvSpPr>
          <p:spPr>
            <a:xfrm>
              <a:off x="515880" y="4997160"/>
              <a:ext cx="3013920" cy="1035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nds with “-ide” (except hydroxide &amp; cyanide) = </a:t>
              </a:r>
              <a:r>
                <a:rPr b="0" lang="en-US" sz="2200" spc="-1" strike="noStrike">
                  <a:solidFill>
                    <a:srgbClr val="9933ff"/>
                  </a:solidFill>
                  <a:latin typeface="Arial"/>
                </a:rPr>
                <a:t>Binary Ioni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175146"/>
            <p:cNvSpPr/>
            <p:nvPr/>
          </p:nvSpPr>
          <p:spPr>
            <a:xfrm>
              <a:off x="4032360" y="4997160"/>
              <a:ext cx="3013920" cy="10357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ll others = </a:t>
              </a:r>
              <a:r>
                <a:rPr b="0" lang="en-US" sz="2200" spc="-1" strike="noStrike">
                  <a:solidFill>
                    <a:srgbClr val="9933ff"/>
                  </a:solidFill>
                  <a:latin typeface="Arial"/>
                </a:rPr>
                <a:t>Polyatomic Ioni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13440" y="1996920"/>
            <a:ext cx="366444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Iron (I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Nitroge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odium bi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x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32760" y="1996920"/>
            <a:ext cx="191124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u(N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e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aHC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llowing chemical form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13440" y="1996920"/>
            <a:ext cx="366444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I)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Iron (I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Nitroge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odium bi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als &amp; Non-Met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520" y="1461960"/>
            <a:ext cx="841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onic Bonds are between metals &amp; non-met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43160" y="1973160"/>
          <a:ext cx="6323040" cy="4057560"/>
        </p:xfrm>
        <a:graphic>
          <a:graphicData uri="http://schemas.openxmlformats.org/drawingml/2006/table">
            <a:tbl>
              <a:tblPr/>
              <a:tblGrid>
                <a:gridCol w="333360"/>
                <a:gridCol w="360360"/>
                <a:gridCol w="325440"/>
                <a:gridCol w="318960"/>
                <a:gridCol w="339840"/>
                <a:gridCol w="363600"/>
                <a:gridCol w="363600"/>
                <a:gridCol w="331560"/>
                <a:gridCol w="351000"/>
                <a:gridCol w="425520"/>
                <a:gridCol w="403200"/>
                <a:gridCol w="403200"/>
                <a:gridCol w="374760"/>
                <a:gridCol w="333360"/>
                <a:gridCol w="325440"/>
                <a:gridCol w="318960"/>
                <a:gridCol w="317520"/>
                <a:gridCol w="333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u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u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llo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met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End in “-ide” (except “hydroxide and cyanide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Do NOT contain covalent prefi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Write the symbol &amp; charge of the first element (the metal, cat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Write the symbol &amp; charge of the second element (the non-metal, an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Add more of the cations and/or anions to have a neutral comp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Use subscripts to show how many of each type of ion is the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&amp; Naming Binary Io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0600" y="3086280"/>
            <a:ext cx="336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0600" y="3086280"/>
            <a:ext cx="336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416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75120" y="441792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2520" y="53863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0600" y="3086280"/>
            <a:ext cx="3368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4280" y="3049560"/>
            <a:ext cx="1600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88748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4920" y="2232000"/>
            <a:ext cx="113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1720" y="3697200"/>
            <a:ext cx="164484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94240" y="366408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4160" y="4019400"/>
            <a:ext cx="104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5576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75120" y="441792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2520" y="53863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61000" y="266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9040" y="3352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408312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ound is neutral…no subscripts are nee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19:36:13Z</dcterms:created>
  <dc:creator>Luke H Deters</dc:creator>
  <dc:description/>
  <dc:language>en-US</dc:language>
  <cp:lastModifiedBy>detersk</cp:lastModifiedBy>
  <dcterms:modified xsi:type="dcterms:W3CDTF">2006-09-25T13:29:57Z</dcterms:modified>
  <cp:revision>14</cp:revision>
  <dc:subject/>
  <dc:title>Chemistry You Need to Know</dc:title>
</cp:coreProperties>
</file>